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E4E-943E-44A7-A82C-C9CEDD62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195-70F2-48A1-9F64-6E1BA23D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008-D32D-4893-95FF-F6851851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6E2-6447-4CFA-8232-6C1978C6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29D-A65D-4736-9803-F0F2A349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6E8-6EFB-4C6E-A9EE-6EC1064C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523-F48A-4BEF-BF70-38D387D7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C6C-17D6-4FED-90EF-AB9901B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8DF-E6A8-44FA-888D-624A5D44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E78-0E0A-460B-B212-BC30189E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C77-E070-4B56-8FC3-CF35F210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1C0-2FA4-4502-9DB2-B003E5EF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1393-7E23-48F8-BC74-40332B1FB4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5c5cd6"/>
                </a:solidFill>
                <a:latin typeface="Tempus Sans ITC"/>
              </a:rPr>
              <a:t>CREANDO CONCIENCI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5df21"/>
                </a:solidFill>
                <a:latin typeface="Lucida Handwriting"/>
              </a:rPr>
              <a:t>¿ SE TRATA DE UN SISTEMA PARA MEJORAR</a:t>
            </a:r>
            <a:br>
              <a:rPr sz="4800"/>
            </a:br>
            <a:r>
              <a:rPr b="0" lang="en-US" sz="4800" spc="-1" strike="noStrike">
                <a:solidFill>
                  <a:srgbClr val="65df21"/>
                </a:solidFill>
                <a:latin typeface="Lucida Handwriting"/>
              </a:rPr>
              <a:t>LA CALIDAD AMBIENTAL DEL CENTRO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Lucida Handwriting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Tempus Sans ITC"/>
              </a:rPr>
              <a:t>Por supuesto, 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Tempus Sans ITC"/>
              </a:rPr>
              <a:t>pero también de un </a:t>
            </a:r>
            <a:r>
              <a:rPr b="1" lang="en-US" sz="5400" spc="-1" strike="noStrike">
                <a:solidFill>
                  <a:srgbClr val="990099"/>
                </a:solidFill>
                <a:latin typeface="Tempus Sans ITC"/>
              </a:rPr>
              <a:t>proceso</a:t>
            </a:r>
            <a:br>
              <a:rPr sz="5400"/>
            </a:br>
            <a:r>
              <a:rPr b="1" lang="en-US" sz="5400" spc="-1" strike="noStrike">
                <a:solidFill>
                  <a:srgbClr val="990099"/>
                </a:solidFill>
                <a:latin typeface="Tempus Sans ITC"/>
              </a:rPr>
              <a:t>educativo</a:t>
            </a:r>
            <a:r>
              <a:rPr b="1" lang="en-US" sz="4000" spc="-1" strike="noStrike">
                <a:solidFill>
                  <a:srgbClr val="990099"/>
                </a:solidFill>
                <a:latin typeface="Tempus Sans ITC"/>
              </a:rPr>
              <a:t> destinado a afianzar comportamientos y</a:t>
            </a:r>
            <a:br>
              <a:rPr sz="4000"/>
            </a:br>
            <a:r>
              <a:rPr b="1" lang="en-US" sz="5400" spc="-1" strike="noStrike">
                <a:solidFill>
                  <a:srgbClr val="990099"/>
                </a:solidFill>
                <a:latin typeface="Tempus Sans ITC"/>
              </a:rPr>
              <a:t>compromisos entre la comunidad esco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80880"/>
            <a:ext cx="83818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8b55"/>
                </a:solidFill>
                <a:latin typeface="Lucida Handwriting"/>
              </a:rPr>
              <a:t>SE TRATA DE UN PROCESO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Handwriting"/>
              <a:buChar char="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Se detectan los problemas ambientales de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Lucida Handwriting"/>
              <a:buChar char="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Se proponen medidas concretas para solucionar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5360" y="220968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8b55"/>
                </a:solidFill>
                <a:latin typeface="Lucida Handwriting"/>
              </a:rPr>
              <a:t>¿Y QUIÉN INTERVIE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8520" y="2755800"/>
            <a:ext cx="436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Las asociaciones de padres y mad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La d i r e c c i ó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El personal no doc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El alum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Lucida Handwriting"/>
              </a:rPr>
              <a:t>El profeso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486400"/>
            <a:ext cx="8763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Su papel más importante será hacer de la ecoauditoría algo participativo,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la que los alumnos sientan que están trabajando para mejorar su centro, y que su trabajo es úti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importante y reconoci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371600"/>
            <a:ext cx="83059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1.  ORGANIZACIÓN Y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Informar a la comunidad educativa </a:t>
            </a: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  RED ECOS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  “captación 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Formar el COMITÉ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2. PLAN DE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Se establecen objetivos. Qué hacer para mejorar la situación</a:t>
            </a:r>
            <a:r>
              <a:rPr b="0" lang="en-US" sz="1600" spc="-1" strike="noStrike">
                <a:solidFill>
                  <a:srgbClr val="ff9900"/>
                </a:solidFill>
                <a:latin typeface="Lucida Handwriting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3.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Se pone en marcha lo program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4.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Ver si se ha conseguido los objetivos y corregir los fal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5. 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Lucida Handwriting"/>
              </a:rPr>
              <a:t>Difundir los log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8088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ne trabajar siguiendo una planificación cuyos pas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¿Qué podemo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hacer nosotr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6095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bc523"/>
                </a:solidFill>
                <a:latin typeface="Tempus Sans ITC"/>
              </a:rPr>
              <a:t>3 R’</a:t>
            </a:r>
            <a:r>
              <a:rPr b="0" lang="en-US" sz="7200" spc="-1" strike="noStrike" baseline="30000">
                <a:solidFill>
                  <a:srgbClr val="1bc523"/>
                </a:solidFill>
                <a:latin typeface="Tempus Sans ITC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bc523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bc523"/>
                </a:solidFill>
                <a:latin typeface="Lucida Handwriting"/>
              </a:rPr>
              <a:t>REDUCI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bc523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bc523"/>
                </a:solidFill>
                <a:latin typeface="Lucida Handwriting"/>
              </a:rPr>
              <a:t>REUTILIZ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bc523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bc523"/>
                </a:solidFill>
                <a:latin typeface="Lucida Handwriting"/>
              </a:rPr>
              <a:t>RECICL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Lucida Handwriting"/>
              </a:rPr>
              <a:t>REDUC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EL GASTO DE A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Lucida Handwriting"/>
              </a:rPr>
              <a:t>REDUC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07e15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07e15"/>
                </a:solidFill>
                <a:latin typeface="Lucida Handwriting"/>
              </a:rPr>
              <a:t>EL GASTO DE PAP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Lucida Handwriting"/>
              </a:rPr>
              <a:t>REDUC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EL GASTO DE LU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71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97325"/>
                </a:solidFill>
                <a:latin typeface="Lucida Handwriting"/>
              </a:rPr>
              <a:t>RED ECOS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Lucida Handwriting"/>
              </a:rPr>
              <a:t>REDUC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80"/>
                </a:solidFill>
                <a:latin typeface="Lucida Handwriting"/>
              </a:rPr>
              <a:t>EL GASTO DE TIN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adley Hand ITC"/>
              </a:rPr>
              <a:t>REUTILIZ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EL PAPE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adley Hand ITC"/>
              </a:rPr>
              <a:t>REUTILIZ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radley Hand ITC"/>
              </a:rPr>
              <a:t>EL AGU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SEPARAR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PARA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Lucida Handwriting"/>
              </a:rPr>
              <a:t>RECICLAR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14400" y="525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32b0d"/>
                </a:solidFill>
                <a:latin typeface="Lucida Handwriting"/>
              </a:rPr>
              <a:t>EL PAP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ff"/>
                </a:solidFill>
                <a:latin typeface="Lucida Handwriting"/>
              </a:rPr>
              <a:t>EL PLÁST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1c1c1c"/>
                </a:solidFill>
                <a:latin typeface="Lucida Handwriting"/>
              </a:rPr>
              <a:t>LAS LAT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Lucida Handwriting"/>
              </a:rPr>
              <a:t>LAS PI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bc523"/>
                </a:solidFill>
                <a:latin typeface="Tempus Sans ITC"/>
              </a:rPr>
              <a:t>vide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6000" spc="-1" strike="noStrike">
              <a:solidFill>
                <a:srgbClr val="1bc523"/>
              </a:solidFill>
              <a:latin typeface="Lucida Handwriting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762120"/>
            <a:ext cx="7391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Lucida Handwriting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Lucida Handwriting"/>
              </a:rPr>
              <a:t>Un gran viaje comienza con un pequeño pas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Lucida Handwriting"/>
              </a:rPr>
              <a:t>La motivación es lo que te hace empezar, el hábito lo que te mantiene andando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07e15"/>
                </a:solidFill>
                <a:latin typeface="Tempus Sans ITC"/>
              </a:rPr>
              <a:t>Red Canaria </a:t>
            </a:r>
            <a:br>
              <a:rPr sz="6600"/>
            </a:br>
            <a:r>
              <a:rPr b="1" lang="en-US" sz="6600" spc="-1" strike="noStrike">
                <a:solidFill>
                  <a:srgbClr val="107e15"/>
                </a:solidFill>
                <a:latin typeface="Tempus Sans ITC"/>
              </a:rPr>
              <a:t>de Centros Educativos </a:t>
            </a:r>
            <a:br>
              <a:rPr sz="6600"/>
            </a:br>
            <a:r>
              <a:rPr b="1" lang="en-US" sz="6600" spc="-1" strike="noStrike">
                <a:solidFill>
                  <a:srgbClr val="107e15"/>
                </a:solidFill>
                <a:latin typeface="Tempus Sans ITC"/>
              </a:rPr>
              <a:t>para la </a:t>
            </a:r>
            <a:br>
              <a:rPr sz="6600"/>
            </a:br>
            <a:r>
              <a:rPr b="1" lang="en-US" sz="6600" spc="-1" strike="noStrike">
                <a:solidFill>
                  <a:srgbClr val="107e15"/>
                </a:solidFill>
                <a:latin typeface="Tempus Sans ITC"/>
              </a:rPr>
              <a:t>Sostenibilidad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600" y="396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Handwriting"/>
              </a:rPr>
              <a:t>EL MUNDO ESTÁ EN TUS MAN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Handwriting"/>
              </a:rPr>
              <a:t>RECUERD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Lucida Handwriting"/>
              </a:rPr>
              <a:t>RED EC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Lucida Handwriting"/>
              </a:rPr>
              <a:t>IES LOS NARANJER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Handwriting"/>
              </a:rPr>
              <a:t>Coordinadora: Antonia Qui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¿</a:t>
            </a:r>
            <a:r>
              <a:rPr b="0" lang="en-US" sz="6000" spc="-1" strike="noStrike">
                <a:solidFill>
                  <a:srgbClr val="ffffff"/>
                </a:solidFill>
                <a:latin typeface="Tempus Sans ITC"/>
              </a:rPr>
              <a:t>Sostenibilidad</a:t>
            </a: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99"/>
                </a:solidFill>
                <a:latin typeface="Tempus Sans ITC"/>
              </a:rPr>
              <a:t>¿Qué pretende la </a:t>
            </a:r>
            <a:br>
              <a:rPr sz="6600"/>
            </a:br>
            <a:r>
              <a:rPr b="1" lang="en-US" sz="6600" spc="-1" strike="noStrike">
                <a:solidFill>
                  <a:srgbClr val="ffff99"/>
                </a:solidFill>
                <a:latin typeface="Tempus Sans ITC"/>
              </a:rPr>
              <a:t>Red Eco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000" spc="-1" strike="noStrike">
                <a:solidFill>
                  <a:srgbClr val="c90128"/>
                </a:solidFill>
                <a:latin typeface="Lucida Handwriting"/>
              </a:rPr>
              <a:t>	</a:t>
            </a:r>
            <a:r>
              <a:rPr b="0" lang="es-ES" sz="4800" spc="-1" strike="noStrike">
                <a:solidFill>
                  <a:srgbClr val="ffff99"/>
                </a:solidFill>
                <a:latin typeface="Kristen ITC"/>
              </a:rPr>
              <a:t>educar en</a:t>
            </a:r>
            <a:br>
              <a:rPr sz="4800"/>
            </a:br>
            <a:r>
              <a:rPr b="0" lang="es-ES" sz="4800" spc="-1" strike="noStrike">
                <a:solidFill>
                  <a:srgbClr val="ffff99"/>
                </a:solidFill>
                <a:latin typeface="Kristen ITC"/>
              </a:rPr>
              <a:t>	</a:t>
            </a:r>
            <a:r>
              <a:rPr b="0" lang="es-ES" sz="4800" spc="-1" strike="noStrike">
                <a:solidFill>
                  <a:srgbClr val="ffff99"/>
                </a:solidFill>
                <a:latin typeface="Kristen ITC"/>
              </a:rPr>
              <a:t>	</a:t>
            </a:r>
            <a:r>
              <a:rPr b="0" lang="es-ES" sz="4800" spc="-1" strike="noStrike">
                <a:solidFill>
                  <a:srgbClr val="ffff99"/>
                </a:solidFill>
                <a:latin typeface="Kristen ITC"/>
              </a:rPr>
              <a:t>valores ambient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empus Sans ITC"/>
              </a:rPr>
              <a:t>A través 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7325"/>
                </a:solidFill>
                <a:latin typeface="Bradley Hand ITC"/>
              </a:rPr>
              <a:t>L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7325"/>
                </a:solidFill>
                <a:latin typeface="Bradley Hand ITC"/>
              </a:rPr>
              <a:t>ECOAUDITORÍ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7325"/>
                </a:solidFill>
                <a:latin typeface="Bradley Hand ITC"/>
              </a:rPr>
              <a:t>ESCOL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2a70"/>
                </a:solidFill>
                <a:latin typeface="Kristen ITC"/>
              </a:rPr>
              <a:t>...Pero ¿QUÉ ES UNA</a:t>
            </a:r>
            <a:br>
              <a:rPr sz="6000"/>
            </a:br>
            <a:r>
              <a:rPr b="0" lang="en-US" sz="6000" spc="-1" strike="noStrike">
                <a:solidFill>
                  <a:srgbClr val="662a70"/>
                </a:solidFill>
                <a:latin typeface="Kristen ITC"/>
              </a:rPr>
              <a:t>ECOAUDITORÍA</a:t>
            </a:r>
            <a:br>
              <a:rPr sz="6000"/>
            </a:br>
            <a:r>
              <a:rPr b="0" lang="en-US" sz="6000" spc="-1" strike="noStrike">
                <a:solidFill>
                  <a:srgbClr val="662a70"/>
                </a:solidFill>
                <a:latin typeface="Kristen ITC"/>
              </a:rPr>
              <a:t>ESCOLAR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5:32Z</dcterms:created>
  <dc:creator>ADG</dc:creator>
  <dc:description/>
  <dc:language>en-US</dc:language>
  <cp:lastModifiedBy>ADG</cp:lastModifiedBy>
  <dcterms:modified xsi:type="dcterms:W3CDTF">2009-10-14T08:41:43Z</dcterms:modified>
  <cp:revision>38</cp:revision>
  <dc:subject/>
  <dc:title>Presentación de PowerPoint</dc:title>
</cp:coreProperties>
</file>